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6780-9C59-4063-A7D9-DB87EA43381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acher can monitor for errors and elicit corrections post-task. The debates could be recorded / filmed for later feedback. Or each group could have a “secretary” to take no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4CDF-47CC-499A-93E0-AE367826A08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“pre-lesson” homework should take 20 – 40 mins, and learners can, of course, go at their own pace and look up as many words / phrases as they like. This could be posted on-line or on a college / school moodle for learners to access before the lesson (see “flipped learning” eg at : http://www.knewton.com/flipped-classroom/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5E10-3CA4-4923-9D28-D78D5A700AB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could take 2 – 3 hrs: Speaking: 10 – 20 mins; Reading 10 – 20 mins; Vocabulary: 20 – 40 mins; Number work: 20 – 30 mins; Speaking: 20 – 40 mins; Writing: 30 – 40 m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3521-D318-4012-97A0-BF9AC652C33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ompare the problems they’ve listed from the reading home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3E1C-03C7-4A14-9150-FF4528DE0F2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check meanings in small groups / with dictionaries, and then discuss possible reasons for these problems. The teacher can monitor for errors and do post-task error cor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BD06-9EC0-4AAD-83FA-1ADB2CB27CE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f learners have access to computers / tablets, they can read on-line. Otherwise, the teacher can print out this second arti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6D5B-A03D-4CBD-84E4-789911B9EB8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an monitor, guide and check understanding, especially when learners present their words to the cl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34AD-19F9-461E-A602-AB9B949E866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e article for scales: http://eewiki.newint.org/index.php/The_girls_are_b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D8EF-8A92-4857-850C-21B9C287444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make bar charts on paper or on computers if they have acc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1573-D941-46F6-8683-FE632D41C82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0F73-E0AB-4F33-A82B-8755F91CA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8A9F-CDD3-42D4-A366-F452E9F2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233D-D2E5-4BB1-96B1-3DDEE739F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A465-572E-4609-8EF3-1B3368406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B9B4-DD76-4707-9567-6F7B6BC3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B908-55E3-4315-B44E-006C9961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A196-B4A5-40A0-9AE0-055833DE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F4BF-2DA3-4059-BE11-6BFFC5C4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FEF0-9D30-4C27-B405-88D1E6CB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00CD-CF08-446D-AB54-E952BEA7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B558-74A1-4F8D-8722-3B6A4F27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C7FF-2F87-4EA4-9B86-79F50CB7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1D05-6BDA-42EF-BB9A-8707E9C0E5D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No_girl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40000" y="2636640"/>
            <a:ext cx="6408720" cy="194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No girl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868640"/>
            <a:ext cx="64008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898989"/>
                </a:solidFill>
                <a:latin typeface="Calibri"/>
              </a:rPr>
              <a:t>NEW INTERNATIONALIST  EASIER ENGLISH UPPER INTERMEDIATE READY LESS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898989"/>
                </a:solidFill>
                <a:latin typeface="Calibri"/>
              </a:rPr>
              <a:t>(example of a “flipped” lesson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2563920" cy="3600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3111480" y="692280"/>
            <a:ext cx="60166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peak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50920" y="1267920"/>
            <a:ext cx="86630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/ Prepare in pairs for a balanced deba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What can we do about the gender imbalance?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ke notes abo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blem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asons for these 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lu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2/ In small groups, have a formal deb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5292720" y="2997360"/>
            <a:ext cx="362124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39280" y="126828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 the same groups, write a letter to the United Na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e the problems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clude and explain your bar graphs, 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uggest possibl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olution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5826240" y="4437000"/>
            <a:ext cx="2916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Learner preparation for the lesson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0920" y="119700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1/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Read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 Easier English article “No girls”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No_gir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o find (and list) all the problem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2/ Read the original article, by clicking on the link at the bottom – or here: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http://newint.org/features/2013/10/01/girls-not-allowed-keynote/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note down 3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new words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or phra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3/ Watch this youtube clip on how to draw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bar graphs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ww.youtube.com/watch?v=0q_9VmQZ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Less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4000" y="1413000"/>
            <a:ext cx="83628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c00000"/>
                </a:solidFill>
                <a:latin typeface="Calibri"/>
              </a:rPr>
              <a:t>Speaking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discuss artic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70c0"/>
                </a:solidFill>
                <a:latin typeface="Calibri"/>
              </a:rPr>
              <a:t>Reading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about solut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2d050"/>
                </a:solidFill>
                <a:latin typeface="Calibri"/>
              </a:rPr>
              <a:t>Vocabulary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teach each oth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7030a0"/>
                </a:solidFill>
                <a:latin typeface="Calibri"/>
              </a:rPr>
              <a:t>Numeracy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a bar 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b050"/>
                </a:solidFill>
                <a:latin typeface="Calibri"/>
              </a:rPr>
              <a:t>Speaking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a debat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alibri"/>
              </a:rPr>
              <a:t>Writing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a group lett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peak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groups, discus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what are the proble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from the text you rea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58680" y="3716280"/>
            <a:ext cx="4067280" cy="2376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4716360" y="189000"/>
            <a:ext cx="4219560" cy="3024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3"/>
          <a:stretch/>
        </p:blipFill>
        <p:spPr>
          <a:xfrm>
            <a:off x="4219560" y="3500280"/>
            <a:ext cx="472608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What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are these problems? And 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why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do they exist?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nfantic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Negl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Sex-selective abor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raffick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hild marri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Kidnapp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Violenc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Gang rap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Men without partn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Gre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raditional view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are the </a:t>
            </a:r>
            <a:r>
              <a:rPr b="1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solutions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groups, think of / predict some solutions, then read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http://eewiki.newint.org/index.php/The_girls_are_bac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o find more solutions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aster readers can then read the original too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ttp://newint.org/features/2013/10/01/the-girls-are-back-in-tow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6084720" y="3357720"/>
            <a:ext cx="27021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Vocabular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) In groups,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compar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the vocabulary / phrases you found from the texts before the less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Explain / discus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meanings, and look at them in the texts (in both the original and the Easier English articl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) Each group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resent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3 new words / phrases to the cla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5778360" y="4653000"/>
            <a:ext cx="296712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umerac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does this graph sh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814320" y="2357280"/>
            <a:ext cx="6249960" cy="38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groups, make a bar chart to show this information 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50560" y="1916280"/>
            <a:ext cx="85690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Normally,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5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boys are born for every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0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girls. But because of all the change,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7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is now the world average.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China is the worst, they have about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18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boys born to every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0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girls; India has a national average of about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11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. Azerbaijan, has about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16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boys to every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0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girls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hart 3" descr=""/>
          <p:cNvPicPr/>
          <p:nvPr/>
        </p:nvPicPr>
        <p:blipFill>
          <a:blip r:embed="rId1"/>
          <a:stretch/>
        </p:blipFill>
        <p:spPr>
          <a:xfrm>
            <a:off x="6753240" y="714240"/>
            <a:ext cx="192564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2T15:11:36Z</dcterms:created>
  <dc:creator>Linda Ruas</dc:creator>
  <dc:description/>
  <dc:language>en-US</dc:language>
  <cp:lastModifiedBy>Linda Ruas</cp:lastModifiedBy>
  <dcterms:modified xsi:type="dcterms:W3CDTF">2013-11-02T22:35:56Z</dcterms:modified>
  <cp:revision>15</cp:revision>
  <dc:subject/>
  <dc:title>No more girls</dc:title>
</cp:coreProperties>
</file>